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4B5-BB53-4E03-ACFF-84933A23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17E-F903-4848-BC31-500F50CC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8C9-DB07-45A3-B534-D82522C3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01F-DF31-4C5C-9828-46781879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C89-15DD-427C-B6C3-CFEBEDD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B22-6BBC-4320-8C00-3E8E089F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017-444B-4DB5-B071-C968CB5E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034-785A-45E5-9483-D4953810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7DD-0FA7-4509-B4C2-44E4074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60C-438B-49B5-B29B-B29C8E8B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8E6-C5F9-486F-8B52-76CD710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F41-7A18-4183-A9D1-95E7E591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7232-218F-45EE-8B82-C89F7EDDA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09640" y="0"/>
            <a:ext cx="7524720" cy="67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 minut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arte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76360" y="1349280"/>
          <a:ext cx="4405320" cy="4160880"/>
        </p:xfrm>
        <a:graphic>
          <a:graphicData uri="http://schemas.openxmlformats.org/drawingml/2006/table">
            <a:tbl>
              <a:tblPr/>
              <a:tblGrid>
                <a:gridCol w="1459080"/>
                <a:gridCol w="1492200"/>
                <a:gridCol w="1454040"/>
              </a:tblGrid>
              <a:tr h="13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7559640" y="184464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6058080"/>
            <a:ext cx="900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454500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9640" y="3168720"/>
            <a:ext cx="900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88360" y="297000"/>
            <a:ext cx="7207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6058080"/>
            <a:ext cx="720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03640" y="6058080"/>
            <a:ext cx="936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720" y="5805360"/>
            <a:ext cx="7207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877080" y="800280"/>
            <a:ext cx="61128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948360" y="2097000"/>
            <a:ext cx="611280" cy="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877080" y="5552640"/>
            <a:ext cx="7192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911640" y="48690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948000" y="3429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5928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119640" y="5697360"/>
            <a:ext cx="0" cy="3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2565360"/>
            <a:ext cx="111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1628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30160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4292640"/>
            <a:ext cx="8283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19640" y="4292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35280" y="432900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88000" y="15922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19640" y="162864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3016080"/>
            <a:ext cx="8283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35280" y="3016080"/>
            <a:ext cx="82872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21:19:45Z</dcterms:created>
  <dc:creator>Trifon</dc:creator>
  <dc:description/>
  <dc:language>en-US</dc:language>
  <cp:lastModifiedBy>Trifon</cp:lastModifiedBy>
  <dcterms:modified xsi:type="dcterms:W3CDTF">2003-10-28T21:25:30Z</dcterms:modified>
  <cp:revision>2</cp:revision>
  <dc:subject/>
  <dc:title>Slide 1</dc:title>
</cp:coreProperties>
</file>